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981-42D7-41FF-A01D-8ECC24D0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025-AC4E-4802-B408-2858384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09-2941-4525-992A-8BAD1DF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09C-CF3D-4B31-B090-E91FEE63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66CF-390B-414B-BAF1-F15362BF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333E-4F7F-4945-BEBC-FF3477B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BD1-86A7-4A47-AA4D-9F7F49EB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288-BA17-4F57-8429-ACE8B05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D22-3011-44D5-A449-BBD94891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DCF-5255-410D-9A88-153636A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4E3-FC89-4B0A-A070-30D5E03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5EE-FC3D-459A-98E3-F3047EE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EC6D-4882-43BD-849D-DA3DAAE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FA16-9216-4091-9696-34B0735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7FA8-7464-45C4-BB7A-2972EE3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CE4-B0BD-445C-93ED-12B545D6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21D4-F4D8-4F2E-99E8-E804314B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145-D188-449D-A298-67798DE0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C77-4172-4EBB-A497-5C173F9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3B8-3766-4B66-9AA1-0A27892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039-C3CB-40C1-83E6-BE655D51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849-36D7-4871-8843-CD36584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704-A12E-4EE8-B714-3F717C4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B78-233D-4445-A793-55BA7A3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475B-183D-4D71-A2D2-872FDB6BD4B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660-2A17-41D7-B24A-8AD3BE7EAC9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rles Darwi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His 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igin of Specie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rwin’s Backgroun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52320" y="15238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rn in England, 1809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ied Medicine at Edinburgh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erred to Cambridge Univers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ied to be a Mini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3520" y="5638680"/>
            <a:ext cx="275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brary of Congress, Prints and Photographs Division [reproduction number, e.g., LC-USZ61-104]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3" name="Picture 7" descr="C:\My Documents\My Pictures\web page  photos\Darwin.jpg"/>
          <p:cNvPicPr/>
          <p:nvPr/>
        </p:nvPicPr>
        <p:blipFill>
          <a:blip r:embed="rId1"/>
          <a:stretch/>
        </p:blipFill>
        <p:spPr>
          <a:xfrm>
            <a:off x="533520" y="1257480"/>
            <a:ext cx="2714400" cy="43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win’s Expedition - 183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red as Naturalis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.M.S. Bea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iled on Five Year Scientific Exped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wn East Coast of South Ame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p Pacific Coas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alapagos Is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de Stops on Mainland and Is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served Many Similar Animals       with Small Difference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Variation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4" descr="E:\IMAGES\TRANSPRT\WATER\DIY00008.WMF"/>
          <p:cNvPicPr/>
          <p:nvPr/>
        </p:nvPicPr>
        <p:blipFill>
          <a:blip r:embed="rId1"/>
          <a:stretch/>
        </p:blipFill>
        <p:spPr>
          <a:xfrm>
            <a:off x="6781680" y="3962520"/>
            <a:ext cx="1920960" cy="252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rwin’s 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lined Theory in his Book in 1859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n the Origin of Species by Means of Natural Sel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ed in 18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E:\IMAGES\REC_LEIS\READING\CSC00001.WMF"/>
          <p:cNvPicPr/>
          <p:nvPr/>
        </p:nvPicPr>
        <p:blipFill>
          <a:blip r:embed="rId1"/>
          <a:stretch/>
        </p:blipFill>
        <p:spPr>
          <a:xfrm>
            <a:off x="4572000" y="4191120"/>
            <a:ext cx="3124080" cy="223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mmary of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igin of Spec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sed Evolution Resulting from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se With Best Traits Surv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se that survive pass on their traits to their offspr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mall changes over many generations become BIG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me Frame: Millions of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35:05Z</dcterms:created>
  <dc:creator>Jeff Foster</dc:creator>
  <dc:description/>
  <dc:language>en-US</dc:language>
  <cp:lastModifiedBy>Daniel Ramalho</cp:lastModifiedBy>
  <dcterms:modified xsi:type="dcterms:W3CDTF">2011-11-17T02:30:45Z</dcterms:modified>
  <cp:revision>16</cp:revision>
  <dc:subject/>
  <dc:title>PowerPoint Presentation.ppt</dc:title>
</cp:coreProperties>
</file>